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2.wmf" ContentType="image/x-wmf"/>
  <Override PartName="/ppt/media/image21.gif" ContentType="image/gif"/>
  <Override PartName="/ppt/media/image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D3C-B1A7-4617-A84B-5208348F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3DC-38C9-477C-BB5A-BCAAEC9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D4C-D4BA-451B-B262-6E64B479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F02-E21B-4852-A01F-B74B7D58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CB6C-BB1B-48C3-AB1A-ED1DC99D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15C-2BED-4E9D-8B32-00C0EC19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5993-5BE9-4B95-B975-6CFA659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F15-88EF-4DFE-8A9E-72B3BCB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F84-1DAF-4B46-B055-58F8E73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BCC-FFA4-40B3-95EC-9483613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4DF5-75BA-4EB6-8D50-EB00C5D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C88-BE42-412F-930D-78A553D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7A18-9B07-4E7E-B89E-939AE90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FA2F-896A-4E48-91B2-5563496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40D-3BC5-4C27-8604-BC0BD83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58A8-52E6-4B37-90DF-2ABF3B51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88A-D363-4898-A0F1-B1B3E8EA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D6D-FCF6-498C-8A8B-1EB5091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DF9-C43B-4D11-8F16-D1F88C82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9F0-4A29-4117-B13B-9AF5F254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2D7-7C63-45F8-86E1-0F311E58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A9B-878F-464D-94AD-3866DD6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F62-63DA-4343-8D76-764E9B7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465-1B50-4E5A-BE30-990EE6A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C77-AFB7-4A8C-BFBE-62D84B989ECF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833-01E6-40D2-BF2A-CF1C70DF7ED1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hyperlink" Target="http://images.google.de/imgres?imgurl=http://home.arcor.de/wasteseller/stopschild.JPG&amp;imgrefurl=http://cgi.ebay.de/SCHLUSSELFINDER-inkl-2-Ersatz-Batterien-NEU-OVP_W0QQitemZ7553323946QQcategoryZ69212QQcmdZViewItem&amp;h=149&amp;w=150&amp;sz=5&amp;tbnid=ICxRCCkgtv7t-M:&amp;tbnh=89&amp;tbnw=90&amp;hl=de&amp;start=6&amp;prev=/images%3Fq%3Dstopschild%26svnum%3D10%26hl%3Dde%26lr%3D%26sa%3DG" TargetMode="Externa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1081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ewertung im offenen Unterricht -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rozessorientierte Bewertu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16072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825560" cy="216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084720" y="3789360"/>
            <a:ext cx="2160720" cy="2144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700360" y="3789360"/>
            <a:ext cx="3311640" cy="218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700360" y="549360"/>
            <a:ext cx="332568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547640" y="3716280"/>
            <a:ext cx="114948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611280" y="4932360"/>
            <a:ext cx="1008000" cy="91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611280" y="3789360"/>
            <a:ext cx="681120" cy="808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1908000" y="4869000"/>
            <a:ext cx="685800" cy="112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28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orberei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arum ist das Kriterium wichti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st die Formulierung sprachlich verständlich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nte das Kriterium geüb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ann das K. erfüll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önnen unterschiedliche Niveaus dokumentier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66cc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ie kann die Lösung überprüf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1062000" y="15318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2740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urchführung im Unterric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wertungskriterien 1., 2., 3., …… 8., 9., …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achberei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ll das Kriterium für die nächste Beurteilung beibehalten oder verändert werd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ar der unterrichtliche Kontext (Übungszeit, Lernumgebung…) angemess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ntsteht ein besonderer Beratungsbedarf für einzelne Schüle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062000" y="15318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6868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eitere Informationen www.profilfach.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gleiche Folien: Beispiele prozessorientierte Bewertung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19240" indent="-2192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iteratu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jekt und Präsentation, Trauner Verlag, ISBN: 3-85487-087-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Evaluation in der Schule, Vlg. Bertelsmann Stiftung, ISB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3-89204-410-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üfen und Bewerten im offenen Unterricht, Luchterh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472-04729-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ewerten im offenen Unterricht, Vlg. A. d. Ruh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86072-861-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-1828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npassen, verändern, abschaffen, Klinkhard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7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SBN: 3-7815-1169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76360" y="476280"/>
            <a:ext cx="5205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ccecff"/>
                </a:solidFill>
                <a:latin typeface="Arial"/>
              </a:rPr>
              <a:t>Arbeitsauftrag Nr. 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69850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inden Sie sich zur Partnerarbeit oder zur Arbeit in 3er Gruppen zusamm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arbeiten sie folgende Aufgabenstellungen (Zeit…)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rstellen sie ein nachnutzbares Bewertungsinstrument für die Herstellung eines selbst gewählten Produk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utzen sie folgende Grundlagen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ntext der einzelnen Bewertungskriteri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mpetenzbewertungsbo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chten sie auf eindeutige Indikatoren und Punktverteil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eniger ist mehr“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!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944720" cy="16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arum prozessorientierte Bewertung?</a:t>
            </a:r>
            <a:br>
              <a:rPr sz="3200"/>
            </a:br>
            <a:r>
              <a:rPr b="1" lang="de-DE" sz="12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Verdana"/>
              </a:rPr>
              <a:t>Intensionen der Lehplanreform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 als Lernende aktivie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orientierung und individuelle Lernmöglichkei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nwendungsfähigke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 Schülerpersönlichkei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r Lernbegriff/Lerninhal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40766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Verdana"/>
              </a:rPr>
              <a:t>Konsequenzen der Lehrplangestaltung (Auszug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orientierung, Handlungsorientierung als    verbindliche  didaktische Prinzip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tonung von Zielebenen, die zu Aktivitäten herausfordern (anwenden, gestalten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oße Freiräume … für unterrichtliche Differenzi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arum prozessorientierte Bewertung?</a:t>
            </a:r>
            <a:br>
              <a:rPr sz="3200"/>
            </a:br>
            <a:r>
              <a:rPr b="1" lang="de-DE" sz="14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ulprogrammarbeit (Anforderung an die Einzelschule)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Didaktische Grundla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Methodische Vielfal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Umsetzung von Schüler- und Handlungsorientier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ulorgan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Mehr Projekte, Exkursionen ermöglich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Veränderte Rhythmisierung (z. B. Blockmodell – langer Schulta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Kommunikation und Koop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Intensivierung der fachlichen Koop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Neue Formen der überfachlichen Zusammenarbeit (fächerverbindend, fachübergreifen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Öffnung der Schu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rbeit mit Außenpartn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ul- und schulartübergreifende Zusammenarbe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936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Bewertung und Zensierung nach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Celestin Freinet, 1944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583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ie Kontrollmaßnahmen der traditionellen Schule haben in unserer Schule der Arbeit keine Gültigkeit meh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eue Arbeitsmittel und neue Arbeitstechniken verlangen auch die Anwendung neuer Möglichkeiten der Leistungskontrol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iese Kontrolle darf sich nicht nur auf das rein formal erzielte Ergebnis beziehen, sie muss auch die Qualität der Arbeit und die geleistete Anstrengung berücksichtige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Immer, wenn der Schüler sein wirklich Bestes geleistet hat, verdient er auch die beste Beurteilung, gleich wie das Resultat aussie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Zwei Arten von Höchstleistungen miteinander zu vergleichen und objektiv zu bewerten, wäre unserer Sicht der Leistungsbeurteilung ein Unrec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Porträt Célestin Freinet"/>
          <p:cNvPicPr/>
          <p:nvPr/>
        </p:nvPicPr>
        <p:blipFill>
          <a:blip r:embed="rId1"/>
          <a:stretch/>
        </p:blipFill>
        <p:spPr>
          <a:xfrm rot="294600">
            <a:off x="6227640" y="1915920"/>
            <a:ext cx="2719440" cy="4035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87200">
            <a:off x="6516720" y="1988640"/>
            <a:ext cx="1905120" cy="52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647400">
            <a:off x="6587640" y="980640"/>
            <a:ext cx="2305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Verdana"/>
              </a:rPr>
              <a:t>These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Warum prozessorientierte Bewertung?</a:t>
            </a:r>
            <a:br>
              <a:rPr sz="28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vgl. Lehrplanarbeit an der Mittelschule – Projektgruppe Lehrplanarbeit am CI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123640" y="5011560"/>
            <a:ext cx="1079640" cy="50508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16360" y="5084640"/>
            <a:ext cx="532908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ffene Unterrichtsforme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7272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thodische Vielfal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Umsetzung von Schüler- und Handlungsorientier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eue Formen der überfachlichen Zusammenarbeit (fächerverbindend, fachübergreifend, vgl. Lehrpla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hr Projekte, Exkursionen ermöglich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änderte Rhythmisierung (z. B. Blockmodell – langer Schulta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ckwertpapier Bewert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6371280" y="2637360"/>
            <a:ext cx="3456000" cy="574920"/>
          </a:xfrm>
          <a:custGeom>
            <a:avLst/>
            <a:gdLst>
              <a:gd name="textAreaLeft" fmla="*/ 432000 w 3456000"/>
              <a:gd name="textAreaRight" fmla="*/ 3024000 w 3456000"/>
              <a:gd name="textAreaTop" fmla="*/ 143640 h 574920"/>
              <a:gd name="textAreaBottom" fmla="*/ 431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47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Hindernisse für prozessorientierte Bewertung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: AOL-Verlag „10-Minuten-Tipps für Lehrerinnen und Lehrer“ </a:t>
            </a:r>
            <a:br>
              <a:rPr sz="16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ISBN 3-89111-895-3</a:t>
            </a:r>
            <a:r>
              <a:rPr b="0" lang="de-DE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403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Transparent machen der No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240000" cy="142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1319400" cy="103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155736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wierigkeit für Lehrer gerechte Noten zu verteilen (Bsp. GA bei Projekt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3429000"/>
            <a:ext cx="43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Zugrunde liegen unterschiedlicher Bezugsnor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(Strenge-, Mildeeffe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2492280"/>
            <a:ext cx="45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ygmalion-Effekt (ich sehe, was ich sehen wi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2680" y="4869000"/>
            <a:ext cx="42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uppendruck im Lehrerzim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325520" cy="922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rot="666000">
            <a:off x="5796000" y="5444640"/>
            <a:ext cx="13683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 rot="20833200">
            <a:off x="971280" y="333000"/>
            <a:ext cx="85716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6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0" y="2204640"/>
            <a:ext cx="396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 Dokumentation, Hausarbeit, Lernplakat, Flugblatt, Videos, Künstlerische Produkte (Grafik, Statue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34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8840" y="2492280"/>
            <a:ext cx="32986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duktbewertung (statisch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50840" y="3860640"/>
            <a:ext cx="2905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äsentationsbewert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789360"/>
            <a:ext cx="4464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ferate, Gruppenpräsentation, Rollenspiel, Schüler als Lehren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95720" y="5229360"/>
            <a:ext cx="2250360" cy="368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Prozessbewertu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941720"/>
            <a:ext cx="468144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eobachten von Lernverhalten, Beobachten von Gruppenprozes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r, Prozessber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erntagebuch, Soll-Ist-Vergleic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99736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443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4608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chriftliche Dokumentation eines Vortra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Hausarbe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ernplak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Flugblat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Videos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Künstlerische Produkte (Grafik, Statue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4810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rot="235200">
            <a:off x="5867280" y="3068640"/>
            <a:ext cx="2230560" cy="236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565360"/>
            <a:ext cx="417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duktbewertung (statisch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ie prozessorientierte Bewertung?</a:t>
            </a:r>
            <a:br>
              <a:rPr sz="40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3141720"/>
            <a:ext cx="583236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eferate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Gruppenprä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ollenspi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üler als Lehren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315080" y="153180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27640" y="2549520"/>
            <a:ext cx="4330440" cy="3425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24960" y="2540160"/>
            <a:ext cx="32090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äsentations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32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475308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obachten von Lernverhal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obachten von Gruppenprozess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chriftlich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zessberic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erntagebu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ll-Ist-Verglei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315080" y="1531800"/>
            <a:ext cx="60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 Bausteine einer Bewertungskonz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für offenen Unterr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637000"/>
            <a:ext cx="433440" cy="3240000"/>
          </a:xfrm>
          <a:custGeom>
            <a:avLst/>
            <a:gdLst>
              <a:gd name="textAreaLeft" fmla="*/ 0 w 433440"/>
              <a:gd name="textAreaRight" fmla="*/ 156600 w 4334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2708280"/>
            <a:ext cx="3456000" cy="298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utzung von Kriterien für die Erfassung der Schülerleistungen (vgl. Baukaste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ern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ethoden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ozialkompeten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(vgl. Folie Kriterien_Schülerkompetenz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565360"/>
            <a:ext cx="26636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zess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ie prozessorientierte Bewertung?</a:t>
            </a:r>
            <a:br>
              <a:rPr sz="4000"/>
            </a:br>
            <a:r>
              <a:rPr b="1" lang="de-DE" sz="1600" spc="-1" strike="noStrike">
                <a:solidFill>
                  <a:srgbClr val="ccecff"/>
                </a:solidFill>
                <a:latin typeface="Arial"/>
              </a:rPr>
              <a:t>(vgl. Lehrplanarbeit an der Mittelschule – Projektgruppe Lehrplanarbeit am CI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2781000"/>
            <a:ext cx="72835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Bereich(e) suchen (Kompetenz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riterien aus diesen Bereichen auswählen (vgl. Kompetenzbewertungsbog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ndikatoren für die einzelnen Kriterien festlegen (z. B. Baukasten, Bewertungsbogen für Gruppenarbei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6286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ögliches Vorgehen für das Erstellen von Material für prozessorientierte Bewert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802200">
            <a:off x="6587640" y="501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21154200">
            <a:off x="1063800" y="5135040"/>
            <a:ext cx="4792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(Vgl. Schritte Unterrichtsevalu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D. Rauthe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5:13:31Z</dcterms:created>
  <dc:creator>Dirk</dc:creator>
  <dc:description/>
  <dc:language>en-US</dc:language>
  <cp:lastModifiedBy>Dirk</cp:lastModifiedBy>
  <dcterms:modified xsi:type="dcterms:W3CDTF">2006-05-05T11:09:27Z</dcterms:modified>
  <cp:revision>29</cp:revision>
  <dc:subject/>
  <dc:title>Prozessorientierte Bewert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