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png" ContentType="image/png"/>
  <Override PartName="/ppt/media/image6.wmf" ContentType="image/x-wmf"/>
  <Override PartName="/ppt/media/image8.wmf" ContentType="image/x-wmf"/>
  <Override PartName="/ppt/media/image7.wmf" ContentType="image/x-wmf"/>
  <Override PartName="/ppt/media/image12.png" ContentType="image/png"/>
  <Override PartName="/ppt/media/image20.jpeg" ContentType="image/jpeg"/>
  <Override PartName="/ppt/media/image10.jpeg" ContentType="image/jpeg"/>
  <Override PartName="/ppt/media/image9.wmf" ContentType="image/x-wmf"/>
  <Override PartName="/ppt/media/image5.jpeg" ContentType="image/jpeg"/>
  <Override PartName="/ppt/media/image22.wmf" ContentType="image/x-wmf"/>
  <Override PartName="/ppt/media/image21.gif" ContentType="image/gif"/>
  <Override PartName="/ppt/media/image1.wmf" ContentType="image/x-wmf"/>
  <Override PartName="/ppt/media/image19.wmf" ContentType="image/x-wmf"/>
  <Override PartName="/ppt/media/image18.jpeg" ContentType="image/jpeg"/>
  <Override PartName="/ppt/media/image17.wmf" ContentType="image/x-wmf"/>
  <Override PartName="/ppt/media/image16.wmf" ContentType="image/x-wmf"/>
  <Override PartName="/ppt/media/image4.jpeg" ContentType="image/jpeg"/>
  <Override PartName="/ppt/media/image15.png" ContentType="image/png"/>
  <Override PartName="/ppt/media/image14.wmf" ContentType="image/x-wmf"/>
  <Override PartName="/ppt/media/image2.wmf" ContentType="image/x-wmf"/>
  <Override PartName="/ppt/media/image3.wmf" ContentType="image/x-wmf"/>
  <Override PartName="/ppt/media/image13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AC909-CC35-48DC-8229-16DC23CFC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F32EE-EBCF-45F2-B9E1-4A2A31C64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CE417-765F-4772-8570-5F441F6D1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3A66D-FA8D-48AC-8286-143A8DF12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AB637-EA42-4FC4-8A75-44AFB4CCC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E8707-518B-4E9D-8127-9DCA8ED40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DFBEE-CA28-46A9-A8FC-B7D8E467D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8F817-6935-4C96-82EE-0F9637C24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E6B11-7419-4A4B-820E-A8259093F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ABAC9-AA94-44FD-ABAA-B6734628D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6BA83-0BB5-4DF8-99E3-321FC59CB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C89B8-43D7-4B76-A2E4-B2E46B889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36A25-7312-4743-B1C4-22DF241B0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4F4FD-031C-4A5B-A042-FBC54AEBB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3F660-C42B-4067-9A09-DD6955883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1378A-475F-4D30-BD87-70A7CEFA6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590DB-C06D-4840-88A8-3EAD20B28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B5FE6-044D-4870-907F-66FE78C40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E241F-1F44-40C9-BCAD-2FACA983B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CE4C4-67A5-4041-98E2-0DC4B832A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68F03-FECE-4A68-8763-4F6753DE7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2E557-16F2-4227-813D-F69B4916D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EB31D-5329-4656-8E59-87735B3D4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809E6-5F30-4335-9D30-E9E5DDE65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4EB36-877A-4D41-8C56-715FFCF71456}" type="slidenum">
              <a:rPr b="0" lang="de-DE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84C58-1125-4A5B-BADD-926C897EEA0C}" type="slidenum">
              <a:rPr b="0" lang="de-DE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wmf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6.wmf"/><Relationship Id="rId9" Type="http://schemas.openxmlformats.org/officeDocument/2006/relationships/image" Target="../media/image17.wmf"/><Relationship Id="rId10" Type="http://schemas.openxmlformats.org/officeDocument/2006/relationships/hyperlink" Target="http://images.google.de/imgres?imgurl=http://home.arcor.de/wasteseller/stopschild.JPG&amp;imgrefurl=http://cgi.ebay.de/SCHLUSSELFINDER-inkl-2-Ersatz-Batterien-NEU-OVP_W0QQitemZ7553323946QQcategoryZ69212QQcmdZViewItem&amp;h=149&amp;w=150&amp;sz=5&amp;tbnid=ICxRCCkgtv7t-M:&amp;tbnh=89&amp;tbnw=90&amp;hl=de&amp;start=6&amp;prev=/images%3Fq%3Dstopschild%26svnum%3D10%26hl%3Dde%26lr%3D%26sa%3DG" TargetMode="External"/><Relationship Id="rId11" Type="http://schemas.openxmlformats.org/officeDocument/2006/relationships/image" Target="../media/image18.jpeg"/><Relationship Id="rId12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9640" y="2707920"/>
            <a:ext cx="7772400" cy="10810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Bewertung im offenen Unterricht -</a:t>
            </a:r>
            <a:br>
              <a:rPr sz="3200"/>
            </a:b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Prozessorientierte Bewertung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6084720" y="692280"/>
            <a:ext cx="2160720" cy="200016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539640" y="549360"/>
            <a:ext cx="1825560" cy="216036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3"/>
          <a:stretch/>
        </p:blipFill>
        <p:spPr>
          <a:xfrm>
            <a:off x="6084720" y="3789360"/>
            <a:ext cx="2160720" cy="214488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4"/>
          <a:stretch/>
        </p:blipFill>
        <p:spPr>
          <a:xfrm>
            <a:off x="2700360" y="3789360"/>
            <a:ext cx="3311640" cy="218772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5"/>
          <a:stretch/>
        </p:blipFill>
        <p:spPr>
          <a:xfrm>
            <a:off x="2700360" y="549360"/>
            <a:ext cx="3325680" cy="218916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6"/>
          <a:stretch/>
        </p:blipFill>
        <p:spPr>
          <a:xfrm>
            <a:off x="1547640" y="3716280"/>
            <a:ext cx="1149480" cy="115272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7"/>
          <a:stretch/>
        </p:blipFill>
        <p:spPr>
          <a:xfrm>
            <a:off x="611280" y="4932360"/>
            <a:ext cx="1008000" cy="91116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8"/>
          <a:stretch/>
        </p:blipFill>
        <p:spPr>
          <a:xfrm>
            <a:off x="611280" y="3789360"/>
            <a:ext cx="681120" cy="8082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9"/>
          <a:stretch/>
        </p:blipFill>
        <p:spPr>
          <a:xfrm>
            <a:off x="1908000" y="4869000"/>
            <a:ext cx="685800" cy="1125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© D. Rauthe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7920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ccecff"/>
                </a:solidFill>
                <a:latin typeface="Arial"/>
              </a:rPr>
              <a:t>Wie prozessorientierte Bewertung?</a:t>
            </a:r>
            <a:br>
              <a:rPr sz="2800"/>
            </a:br>
            <a:r>
              <a:rPr b="1" lang="de-DE" sz="1600" spc="-1" strike="noStrike">
                <a:solidFill>
                  <a:srgbClr val="ccecff"/>
                </a:solidFill>
                <a:latin typeface="Arial"/>
              </a:rPr>
              <a:t>(vgl. Lehrplanarbeit an der Mittelschule – Projektgruppe Lehrplanarbeit am CI)</a:t>
            </a:r>
            <a:endParaRPr b="0" lang="en-US" sz="1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68360" y="2327040"/>
            <a:ext cx="8229600" cy="39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9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Verdana"/>
              </a:rPr>
              <a:t>Vorbereitung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1371600" indent="-457200">
              <a:spcBef>
                <a:spcPts val="499"/>
              </a:spcBef>
              <a:buClr>
                <a:srgbClr val="66ccff"/>
              </a:buClr>
              <a:buSzPct val="6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Verdana"/>
              </a:rPr>
              <a:t>Warum ist das Kriterium wichtig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1371600" indent="-457200">
              <a:spcBef>
                <a:spcPts val="499"/>
              </a:spcBef>
              <a:buClr>
                <a:srgbClr val="66ccff"/>
              </a:buClr>
              <a:buSzPct val="6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Verdana"/>
              </a:rPr>
              <a:t>Ist die Formulierung sprachlich verständlich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1371600" indent="-457200">
              <a:spcBef>
                <a:spcPts val="499"/>
              </a:spcBef>
              <a:buClr>
                <a:srgbClr val="66ccff"/>
              </a:buClr>
              <a:buSzPct val="6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Verdana"/>
              </a:rPr>
              <a:t>Konnte das Kriterium geübt werden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1371600" indent="-457200">
              <a:spcBef>
                <a:spcPts val="499"/>
              </a:spcBef>
              <a:buClr>
                <a:srgbClr val="66ccff"/>
              </a:buClr>
              <a:buSzPct val="6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Verdana"/>
              </a:rPr>
              <a:t>Wie kann das K. erfüllt werden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1371600" indent="-457200">
              <a:spcBef>
                <a:spcPts val="499"/>
              </a:spcBef>
              <a:buClr>
                <a:srgbClr val="66ccff"/>
              </a:buClr>
              <a:buSzPct val="6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Verdana"/>
              </a:rPr>
              <a:t>Wie können unterschiedliche Niveaus dokumentiert werden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1371600" indent="-457200">
              <a:spcBef>
                <a:spcPts val="499"/>
              </a:spcBef>
              <a:buClr>
                <a:srgbClr val="66ccff"/>
              </a:buClr>
              <a:buSzPct val="6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Verdana"/>
              </a:rPr>
              <a:t>Wie kann die Lösung überprüft werden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"/>
          <p:cNvSpPr/>
          <p:nvPr/>
        </p:nvSpPr>
        <p:spPr>
          <a:xfrm>
            <a:off x="1062000" y="1531800"/>
            <a:ext cx="531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Verdana"/>
              </a:rPr>
              <a:t>Kontext der einzelnen Bewertungskriteri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D. Rauthe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9414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ccecff"/>
                </a:solidFill>
                <a:latin typeface="Arial"/>
              </a:rPr>
              <a:t>Wie prozessorientierte Bewertung?</a:t>
            </a:r>
            <a:br>
              <a:rPr sz="3200"/>
            </a:br>
            <a:r>
              <a:rPr b="1" lang="de-DE" sz="1600" spc="-1" strike="noStrike">
                <a:solidFill>
                  <a:srgbClr val="ccecff"/>
                </a:solidFill>
                <a:latin typeface="Arial"/>
              </a:rPr>
              <a:t>(vgl. Lehrplanarbeit an der Mittelschule – Projektgruppe Lehrplanarbeit am CI)</a:t>
            </a:r>
            <a:endParaRPr b="0" lang="en-US" sz="1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68360" y="2327400"/>
            <a:ext cx="82296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Verdana"/>
              </a:rPr>
              <a:t>Durchführung im Unterrich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Verdana"/>
              </a:rPr>
              <a:t>Bewertungskriterien 1., 2., 3., …… 8., 9., …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Verdana"/>
              </a:rPr>
              <a:t>Nachbereitung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Verdana"/>
              </a:rPr>
              <a:t>Soll das Kriterium für die nächste Beurteilung beibehalten oder verändert werden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Verdana"/>
              </a:rPr>
              <a:t>War der unterrichtliche Kontext (Übungszeit, Lernumgebung…) angemessen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Verdana"/>
              </a:rPr>
              <a:t>Entsteht ein besonderer Beratungsbedarf für einzelne Schüler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" name=""/>
          <p:cNvSpPr/>
          <p:nvPr/>
        </p:nvSpPr>
        <p:spPr>
          <a:xfrm>
            <a:off x="1062000" y="1531800"/>
            <a:ext cx="531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Verdana"/>
              </a:rPr>
              <a:t>Kontext der einzelnen Bewertungskriteri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D. Rauthe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10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10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1" dur="1000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" dur="1000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1000"/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6" dur="1000"/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0" y="2133360"/>
            <a:ext cx="8686800" cy="270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-21924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Verdana"/>
              </a:rPr>
              <a:t>Weitere Informationen www.profilfach.d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19240" indent="-21924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Verdana"/>
              </a:rPr>
              <a:t>Vergleiche Folien: Beispiele prozessorientierte Bewertung…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19240" indent="-21924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Verdana"/>
              </a:rPr>
              <a:t>Literatur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475200" indent="-182880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Verdana"/>
              </a:rPr>
              <a:t>Projekt und Präsentation, Trauner Verlag, ISBN: 3-85487-087-6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475200" indent="-182880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Verdana"/>
              </a:rPr>
              <a:t>Evaluation in der Schule, Vlg. Bertelsmann Stiftung, ISBN: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475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Verdana"/>
              </a:rPr>
              <a:t>3-89204-410-4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475200" indent="-182880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Verdana"/>
              </a:rPr>
              <a:t>Prüfen und Bewerten im offenen Unterricht, Luchterhand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475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Verdana"/>
              </a:rPr>
              <a:t>ISBN: 3-472-04729-1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475200" indent="-182880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Verdana"/>
              </a:rPr>
              <a:t>Bewerten im offenen Unterricht, Vlg. A. d. Ruhr,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475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Verdana"/>
              </a:rPr>
              <a:t>ISBN: 3-86072-861-x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475200" indent="-182880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Verdana"/>
              </a:rPr>
              <a:t>Anpassen, verändern, abschaffen, Klinkhard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475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Verdana"/>
              </a:rPr>
              <a:t>ISBN: 3-7815-1169-3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ccecff"/>
                </a:solidFill>
                <a:latin typeface="Arial"/>
              </a:rPr>
              <a:t>Wie prozessorientierte Bewertung?</a:t>
            </a:r>
            <a:br>
              <a:rPr sz="3200"/>
            </a:br>
            <a:r>
              <a:rPr b="1" lang="de-DE" sz="1600" spc="-1" strike="noStrike">
                <a:solidFill>
                  <a:srgbClr val="ccecff"/>
                </a:solidFill>
                <a:latin typeface="Arial"/>
              </a:rPr>
              <a:t>(vgl. Lehrplanarbeit an der Mittelschule – Projektgruppe Lehrplanarbeit am CI)</a:t>
            </a:r>
            <a:endParaRPr b="0" lang="en-US" sz="1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D. Rauthe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276360" y="476280"/>
            <a:ext cx="520524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600" spc="-1" strike="noStrike">
                <a:solidFill>
                  <a:srgbClr val="ccecff"/>
                </a:solidFill>
                <a:latin typeface="Arial"/>
              </a:rPr>
              <a:t>Arbeitsauftrag Nr. 2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115640" y="2133720"/>
            <a:ext cx="6985080" cy="40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Verdana"/>
              </a:rPr>
              <a:t>Finden Sie sich zur Partnerarbeit oder zur Arbeit in 3er Gruppen zusammen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Verdana"/>
              </a:rPr>
              <a:t>Bearbeiten sie folgende Aufgabenstellungen (Zeit…)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Verdana"/>
              </a:rPr>
              <a:t>Erstellen sie ein nachnutzbares Bewertungsinstrument für die Herstellung eines selbst gewählten Produktes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Verdana"/>
              </a:rPr>
              <a:t>Nutzen sie folgende Grundlagen: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Verdana"/>
              </a:rPr>
              <a:t>Kontext der einzelnen Bewertungskriterie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Verdana"/>
              </a:rPr>
              <a:t>Kompetenzbewertungsboge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Verdana"/>
              </a:rPr>
              <a:t>Achten sie auf eindeutige Indikatoren und Punktverteilung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Verdana"/>
              </a:rPr>
              <a:t>„</a:t>
            </a:r>
            <a:r>
              <a:rPr b="0" lang="de-DE" sz="2000" spc="-1" strike="noStrike">
                <a:solidFill>
                  <a:srgbClr val="ffffff"/>
                </a:solidFill>
                <a:latin typeface="Verdana"/>
              </a:rPr>
              <a:t>Weniger ist mehr“ </a:t>
            </a:r>
            <a:r>
              <a:rPr b="0" lang="de-DE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r>
              <a:rPr b="0" lang="de-DE" sz="2000" spc="-1" strike="noStrike">
                <a:solidFill>
                  <a:srgbClr val="ffffff"/>
                </a:solidFill>
                <a:latin typeface="Verdana"/>
              </a:rPr>
              <a:t>! </a:t>
            </a:r>
            <a:r>
              <a:rPr b="0" lang="de-DE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</a:t>
            </a:r>
            <a:r>
              <a:rPr b="0" lang="de-DE" sz="2000" spc="-1" strike="noStrike">
                <a:solidFill>
                  <a:srgbClr val="ffffff"/>
                </a:solidFill>
                <a:latin typeface="Verdana"/>
              </a:rPr>
              <a:t>!</a:t>
            </a:r>
            <a:r>
              <a:rPr b="0" lang="de-DE" sz="2400" spc="-1" strike="noStrike">
                <a:solidFill>
                  <a:srgbClr val="ffffff"/>
                </a:solidFill>
                <a:latin typeface="Verdana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755640" y="260280"/>
            <a:ext cx="1944720" cy="1684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D. Rauthe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ccecff"/>
                </a:solidFill>
                <a:latin typeface="Arial"/>
              </a:rPr>
              <a:t>Warum prozessorientierte Bewertung?</a:t>
            </a:r>
            <a:br>
              <a:rPr sz="3200"/>
            </a:br>
            <a:r>
              <a:rPr b="1" lang="de-DE" sz="1200" spc="-1" strike="noStrike">
                <a:solidFill>
                  <a:srgbClr val="ccecff"/>
                </a:solidFill>
                <a:latin typeface="Arial"/>
              </a:rPr>
              <a:t>(vgl. Lehrplanarbeit an der Mittelschule – Projektgruppe Lehrplanarbeit am CI)</a:t>
            </a:r>
            <a:endParaRPr b="0" lang="en-US" sz="1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6840" y="1628280"/>
            <a:ext cx="821844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 u="sng">
                <a:solidFill>
                  <a:srgbClr val="ffffff"/>
                </a:solidFill>
                <a:uFillTx/>
                <a:latin typeface="Verdana"/>
              </a:rPr>
              <a:t>Intensionen der Lehplanreform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Verdana"/>
              </a:rPr>
              <a:t>Schüler als Lernende aktiviere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Verdana"/>
              </a:rPr>
              <a:t>Schülerorientierung und individuelle Lernmöglichkeite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Verdana"/>
              </a:rPr>
              <a:t>Anwendungsfähigkei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Verdana"/>
              </a:rPr>
              <a:t>Veränderte Schülerpersönlichkeite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Verdana"/>
              </a:rPr>
              <a:t>Veränderter Lernbegriff/Lerninhalt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539640" y="4076640"/>
            <a:ext cx="82803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 u="sng">
                <a:solidFill>
                  <a:srgbClr val="ffffff"/>
                </a:solidFill>
                <a:uFillTx/>
                <a:latin typeface="Verdana"/>
              </a:rPr>
              <a:t>Konsequenzen der Lehrplangestaltung (Auszug)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de-DE" sz="2000" spc="-1" strike="noStrike">
                <a:solidFill>
                  <a:srgbClr val="ffffff"/>
                </a:solidFill>
                <a:latin typeface="Verdana"/>
              </a:rPr>
              <a:t>Schülerorientierung, Handlungsorientierung als    verbindliche  didaktische Prinzipi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de-DE" sz="2000" spc="-1" strike="noStrike">
                <a:solidFill>
                  <a:srgbClr val="ffffff"/>
                </a:solidFill>
                <a:latin typeface="Verdana"/>
              </a:rPr>
              <a:t>Betonung von Zielebenen, die zu Aktivitäten herausfordern (anwenden, gestalten…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de-DE" sz="2000" spc="-1" strike="noStrike">
                <a:solidFill>
                  <a:srgbClr val="ffffff"/>
                </a:solidFill>
                <a:latin typeface="Verdana"/>
              </a:rPr>
              <a:t>Große Freiräume … für unterrichtliche Differenzieru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D. Rauthe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3" dur="5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6" dur="500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9" dur="500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2" dur="500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5" dur="500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8" dur="500"/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3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ccecff"/>
                </a:solidFill>
                <a:latin typeface="Arial"/>
              </a:rPr>
              <a:t>Warum prozessorientierte Bewertung?</a:t>
            </a:r>
            <a:br>
              <a:rPr sz="3200"/>
            </a:br>
            <a:r>
              <a:rPr b="1" lang="de-DE" sz="1400" spc="-1" strike="noStrike">
                <a:solidFill>
                  <a:srgbClr val="ccecff"/>
                </a:solidFill>
                <a:latin typeface="Arial"/>
              </a:rPr>
              <a:t>(vgl. Lehrplanarbeit an der Mittelschule – Projektgruppe Lehrplanarbeit am CI)</a:t>
            </a:r>
            <a:endParaRPr b="0" lang="en-US" sz="1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85690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Verdana"/>
              </a:rPr>
              <a:t>Schulprogrammarbeit (Anforderung an die Einzelschule)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Verdana"/>
              </a:rPr>
              <a:t>Didaktische Grundlage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Verdana"/>
              </a:rPr>
              <a:t>Methodische Vielfal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Verdana"/>
              </a:rPr>
              <a:t>Umsetzung von Schüler- und Handlungsorientierung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Verdana"/>
              </a:rPr>
              <a:t>Schulorganisatio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Verdana"/>
              </a:rPr>
              <a:t>Mehr Projekte, Exkursionen ermögliche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Verdana"/>
              </a:rPr>
              <a:t>Veränderte Rhythmisierung (z. B. Blockmodell – langer Schultag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Verdana"/>
              </a:rPr>
              <a:t>Kommunikation und Kooperatio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Verdana"/>
              </a:rPr>
              <a:t>Intensivierung der fachlichen Kooperatio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Verdana"/>
              </a:rPr>
              <a:t>Neue Formen der überfachlichen Zusammenarbeit (fächerverbindend, fachübergreifend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Verdana"/>
              </a:rPr>
              <a:t>Öffnung der Schul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Verdana"/>
              </a:rPr>
              <a:t>Arbeit mit Außenpartner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Verdana"/>
              </a:rPr>
              <a:t>Schul- und schulartübergreifende Zusammenarbei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D. Rauthe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0" dur="5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5" dur="500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8" dur="500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1" dur="500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6" dur="500"/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9" dur="500"/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2" dur="500"/>
                                        <p:tgtEl>
                                          <p:spTgt spid="2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7" dur="500"/>
                                        <p:tgtEl>
                                          <p:spTgt spid="2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0" dur="500"/>
                                        <p:tgtEl>
                                          <p:spTgt spid="2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3" dur="500"/>
                                        <p:tgtEl>
                                          <p:spTgt spid="2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8" dur="500"/>
                                        <p:tgtEl>
                                          <p:spTgt spid="2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1" dur="500"/>
                                        <p:tgtEl>
                                          <p:spTgt spid="23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4" dur="500"/>
                                        <p:tgtEl>
                                          <p:spTgt spid="23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362800" cy="93636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Arial"/>
              </a:rPr>
              <a:t>Bewertung und Zensierung nach </a:t>
            </a:r>
            <a:br>
              <a:rPr sz="2800"/>
            </a:br>
            <a:r>
              <a:rPr b="1" lang="de-DE" sz="2800" spc="-1" strike="noStrike">
                <a:solidFill>
                  <a:srgbClr val="ffffff"/>
                </a:solidFill>
                <a:latin typeface="Arial"/>
              </a:rPr>
              <a:t>Celestin Freinet, 1944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94920" y="1125000"/>
            <a:ext cx="58323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Verdana"/>
              </a:rPr>
              <a:t>Die Kontrollmaßnahmen der traditionellen Schule haben in unserer Schule der Arbeit keine Gültigkeit mehr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Verdana"/>
              </a:rPr>
              <a:t>Neue Arbeitsmittel und neue Arbeitstechniken verlangen auch die Anwendung neuer Möglichkeiten der Leistungskontrolle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Verdana"/>
              </a:rPr>
              <a:t>Diese Kontrolle darf sich nicht nur auf das rein formal erzielte Ergebnis beziehen, sie muss auch die Qualität der Arbeit und die geleistete Anstrengung berücksichtigen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Verdana"/>
              </a:rPr>
              <a:t>Immer, wenn der Schüler sein wirklich Bestes geleistet hat, verdient er auch die beste Beurteilung, gleich wie das Resultat aussieht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Verdana"/>
              </a:rPr>
              <a:t>Zwei Arten von Höchstleistungen miteinander zu vergleichen und objektiv zu bewerten, wäre unserer Sicht der Leistungsbeurteilung ein Unrecht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8" name="" descr="Porträt Célestin Freinet"/>
          <p:cNvPicPr/>
          <p:nvPr/>
        </p:nvPicPr>
        <p:blipFill>
          <a:blip r:embed="rId1"/>
          <a:stretch/>
        </p:blipFill>
        <p:spPr>
          <a:xfrm rot="294600">
            <a:off x="6227640" y="1915920"/>
            <a:ext cx="2719440" cy="403524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 rot="187200">
            <a:off x="6516720" y="1988640"/>
            <a:ext cx="1905120" cy="52416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 rot="647400">
            <a:off x="6587640" y="980640"/>
            <a:ext cx="2305080" cy="642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ff"/>
                </a:solidFill>
                <a:latin typeface="Verdana"/>
              </a:rPr>
              <a:t>Thesen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D. Rauthe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8" dur="50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190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 u="sng">
                <a:solidFill>
                  <a:srgbClr val="ffffff"/>
                </a:solidFill>
                <a:uFillTx/>
                <a:latin typeface="Arial"/>
              </a:rPr>
              <a:t>Warum prozessorientierte Bewertung?</a:t>
            </a:r>
            <a:br>
              <a:rPr sz="2800"/>
            </a:b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(vgl. Lehrplanarbeit an der Mittelschule – Projektgruppe Lehrplanarbeit am CI)</a:t>
            </a:r>
            <a:endParaRPr b="0" lang="en-US" sz="1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rot="5400000">
            <a:off x="2123640" y="5011560"/>
            <a:ext cx="1079640" cy="505080"/>
          </a:xfrm>
          <a:custGeom>
            <a:avLst/>
            <a:gdLst>
              <a:gd name="textAreaLeft" fmla="*/ 135000 w 1079640"/>
              <a:gd name="textAreaRight" fmla="*/ 945000 w 1079640"/>
              <a:gd name="textAreaTop" fmla="*/ 126360 h 505080"/>
              <a:gd name="textAreaBottom" fmla="*/ 379080 h 5050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2916360" y="5084640"/>
            <a:ext cx="5329080" cy="1175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Offene Unterrichtsformen</a:t>
            </a:r>
            <a:endParaRPr b="0" lang="en-US" sz="2000" spc="1" strike="noStrike">
              <a:ln w="9360">
                <a:solidFill>
                  <a:srgbClr val="ffffff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68000" y="1197000"/>
            <a:ext cx="727236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Verdana"/>
              </a:rPr>
              <a:t>Methodische Vielfal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Verdana"/>
              </a:rPr>
              <a:t>Umsetzung von Schüler- und Handlungsorientierung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Verdana"/>
              </a:rPr>
              <a:t>Neue Formen der überfachlichen Zusammenarbeit (fächerverbindend, fachübergreifend, vgl. Lehrplan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Verdana"/>
              </a:rPr>
              <a:t>Mehr Projekte, Exkursionen ermögliche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Verdana"/>
              </a:rPr>
              <a:t>Veränderte Rhythmisierung (z. B. Blockmodell – langer Schultag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Verdana"/>
              </a:rPr>
              <a:t>Eckwertpapier Bewertung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 rot="16200000">
            <a:off x="6371280" y="2637360"/>
            <a:ext cx="3456000" cy="574920"/>
          </a:xfrm>
          <a:custGeom>
            <a:avLst/>
            <a:gdLst>
              <a:gd name="textAreaLeft" fmla="*/ 432000 w 3456000"/>
              <a:gd name="textAreaRight" fmla="*/ 3024000 w 3456000"/>
              <a:gd name="textAreaTop" fmla="*/ 143640 h 574920"/>
              <a:gd name="textAreaBottom" fmla="*/ 431280 h 5749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956720" y="47628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0000"/>
                </a:solidFill>
                <a:latin typeface="Verdana"/>
              </a:rPr>
              <a:t>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D. Rauthe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500"/>
                            </p:stCondLst>
                            <p:childTnLst>
                              <p:par>
                                <p:cTn id="8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ccecff"/>
                </a:solidFill>
                <a:latin typeface="Arial"/>
              </a:rPr>
              <a:t>Hindernisse für prozessorientierte Bewertung</a:t>
            </a:r>
            <a:br>
              <a:rPr sz="3200"/>
            </a:br>
            <a:r>
              <a:rPr b="1" lang="de-DE" sz="1600" spc="-1" strike="noStrike">
                <a:solidFill>
                  <a:srgbClr val="ccecff"/>
                </a:solidFill>
                <a:latin typeface="Arial"/>
              </a:rPr>
              <a:t>(vgl. : AOL-Verlag „10-Minuten-Tipps für Lehrerinnen und Lehrer“ </a:t>
            </a:r>
            <a:br>
              <a:rPr sz="1600"/>
            </a:br>
            <a:r>
              <a:rPr b="1" lang="de-DE" sz="1600" spc="-1" strike="noStrike">
                <a:solidFill>
                  <a:srgbClr val="ccecff"/>
                </a:solidFill>
                <a:latin typeface="Arial"/>
              </a:rPr>
              <a:t>(ISBN 3-89111-895-3</a:t>
            </a:r>
            <a:r>
              <a:rPr b="0" lang="de-DE" sz="16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ccecff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5516640"/>
            <a:ext cx="4038480" cy="61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Verdana"/>
              </a:rPr>
              <a:t>Transparent machen der Note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755640" y="3357720"/>
            <a:ext cx="3240000" cy="142380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755640" y="1413000"/>
            <a:ext cx="1319400" cy="103032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2124000" y="1557360"/>
            <a:ext cx="619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de-DE" sz="2000" spc="-1" strike="noStrike">
                <a:solidFill>
                  <a:srgbClr val="ffffff"/>
                </a:solidFill>
                <a:latin typeface="Verdana"/>
              </a:rPr>
              <a:t>Schwierigkeit für Lehrer gerechte Noten zu verteilen (Bsp. GA bei Projekte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427640" y="3429000"/>
            <a:ext cx="4392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de-DE" sz="2000" spc="-1" strike="noStrike">
                <a:solidFill>
                  <a:srgbClr val="ffffff"/>
                </a:solidFill>
                <a:latin typeface="Verdana"/>
              </a:rPr>
              <a:t>Zugrunde liegen unterschiedlicher Bezugsnorme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Verdana"/>
              </a:rPr>
              <a:t>(Strenge-, Mildeeffek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476360" y="2492280"/>
            <a:ext cx="4581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de-DE" sz="2000" spc="-1" strike="noStrike">
                <a:solidFill>
                  <a:srgbClr val="ffffff"/>
                </a:solidFill>
                <a:latin typeface="Verdana"/>
              </a:rPr>
              <a:t>Pygmalion-Effekt (ich sehe, was ich sehen wil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2680" y="4869000"/>
            <a:ext cx="422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de-DE" sz="2000" spc="-1" strike="noStrike">
                <a:solidFill>
                  <a:srgbClr val="ffffff"/>
                </a:solidFill>
                <a:latin typeface="Verdana"/>
              </a:rPr>
              <a:t>Gruppendruck im Lehrerzimm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8"/>
          <a:stretch/>
        </p:blipFill>
        <p:spPr>
          <a:xfrm>
            <a:off x="6443640" y="2276640"/>
            <a:ext cx="1325520" cy="92232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9"/>
          <a:stretch/>
        </p:blipFill>
        <p:spPr>
          <a:xfrm rot="666000">
            <a:off x="5796000" y="5444640"/>
            <a:ext cx="1368360" cy="123192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>
            <a:hlinkClick r:id="rId10"/>
          </p:cNvPr>
          <p:cNvPicPr/>
          <p:nvPr/>
        </p:nvPicPr>
        <p:blipFill>
          <a:blip r:embed="rId11"/>
          <a:stretch/>
        </p:blipFill>
        <p:spPr>
          <a:xfrm rot="20833200">
            <a:off x="971280" y="333000"/>
            <a:ext cx="857160" cy="847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D. Rauthe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3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8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190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ccecff"/>
                </a:solidFill>
                <a:latin typeface="Arial"/>
              </a:rPr>
              <a:t>Wie prozessorientierte Bewertung?</a:t>
            </a:r>
            <a:br>
              <a:rPr sz="3600"/>
            </a:br>
            <a:r>
              <a:rPr b="1" lang="de-DE" sz="1600" spc="-1" strike="noStrike">
                <a:solidFill>
                  <a:srgbClr val="ccecff"/>
                </a:solidFill>
                <a:latin typeface="Arial"/>
              </a:rPr>
              <a:t>(vgl. Lehrplanarbeit an der Mittelschule – Projektgruppe Lehrplanarbeit am CI)</a:t>
            </a:r>
            <a:endParaRPr b="0" lang="en-US" sz="1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0" y="2204640"/>
            <a:ext cx="3960720" cy="1368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Verdana"/>
              </a:rPr>
              <a:t>Schriftliche Dokumentation, Hausarbeit, Lernplakat, Flugblatt, Videos, Künstlerische Produkte (Grafik, Statue…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"/>
          <p:cNvSpPr/>
          <p:nvPr/>
        </p:nvSpPr>
        <p:spPr>
          <a:xfrm>
            <a:off x="468360" y="1341360"/>
            <a:ext cx="828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Verdana"/>
              </a:rPr>
              <a:t>Mögliche Bausteine einer Bewertungskonzep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Verdana"/>
              </a:rPr>
              <a:t>für offenen Unterrich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888840" y="2492280"/>
            <a:ext cx="3298680" cy="368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Verdana"/>
              </a:rPr>
              <a:t>Produktbewertung (statisch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050840" y="3860640"/>
            <a:ext cx="290556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Präsentationsbewertung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84720" y="3789360"/>
            <a:ext cx="4464000" cy="6426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Verdana"/>
              </a:rPr>
              <a:t>Referate, Gruppenpräsentation, Rollenspiel, Schüler als Lehrende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395720" y="5229360"/>
            <a:ext cx="2250360" cy="3682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Verdana"/>
              </a:rPr>
              <a:t>Prozessbewertung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284720" y="4941720"/>
            <a:ext cx="4681440" cy="1191240"/>
          </a:xfrm>
          <a:prstGeom prst="rect">
            <a:avLst/>
          </a:prstGeom>
          <a:noFill/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Verdana"/>
              </a:rPr>
              <a:t>Beobachten von Lernverhalten, Beobachten von Gruppenprozessen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Verdana"/>
              </a:rPr>
              <a:t>Schriftlicher, Prozessberich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Verdana"/>
              </a:rPr>
              <a:t>Lerntagebuch, Soll-Ist-Vergleich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268360" y="2997360"/>
            <a:ext cx="432000" cy="647640"/>
          </a:xfrm>
          <a:prstGeom prst="downArrow">
            <a:avLst>
              <a:gd name="adj1" fmla="val 50000"/>
              <a:gd name="adj2" fmla="val 37479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268360" y="4437000"/>
            <a:ext cx="432000" cy="647640"/>
          </a:xfrm>
          <a:prstGeom prst="downArrow">
            <a:avLst>
              <a:gd name="adj1" fmla="val 50000"/>
              <a:gd name="adj2" fmla="val 37479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D. Rauthe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3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500"/>
                            </p:stCondLst>
                            <p:childTnLst>
                              <p:par>
                                <p:cTn id="1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500"/>
                            </p:stCondLst>
                            <p:childTnLst>
                              <p:par>
                                <p:cTn id="18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190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ccecff"/>
                </a:solidFill>
                <a:latin typeface="Arial"/>
              </a:rPr>
              <a:t>Wie prozessorientierte Bewertung?</a:t>
            </a:r>
            <a:br>
              <a:rPr sz="3200"/>
            </a:br>
            <a:r>
              <a:rPr b="1" lang="de-DE" sz="1600" spc="-1" strike="noStrike">
                <a:solidFill>
                  <a:srgbClr val="ccecff"/>
                </a:solidFill>
                <a:latin typeface="Arial"/>
              </a:rPr>
              <a:t>(vgl. Lehrplanarbeit an der Mittelschule – Projektgruppe Lehrplanarbeit am CI)</a:t>
            </a:r>
            <a:endParaRPr b="0" lang="en-US" sz="1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39640" y="3141720"/>
            <a:ext cx="46087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Verdana"/>
              </a:rPr>
              <a:t>Schriftliche Dokumentation eines Vortrag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Verdana"/>
              </a:rPr>
              <a:t>Hausarbei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Verdana"/>
              </a:rPr>
              <a:t>Lernplaka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Verdana"/>
              </a:rPr>
              <a:t>Flugblat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Verdana"/>
              </a:rPr>
              <a:t>Videos…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Verdana"/>
              </a:rPr>
              <a:t>Künstlerische Produkte (Grafik, Statue…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395280" y="1481040"/>
            <a:ext cx="784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Verdana"/>
              </a:rPr>
              <a:t>Bausteine einer Bewertungskonzep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Verdana"/>
              </a:rPr>
              <a:t>für offenen Unterrich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 rot="235200">
            <a:off x="5867280" y="3068640"/>
            <a:ext cx="2230560" cy="236376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971640" y="2565360"/>
            <a:ext cx="4174920" cy="3988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Verdana"/>
              </a:rPr>
              <a:t>Produktbewertung (statisch)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D. Rauthe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Wie prozessorientierte Bewertung?</a:t>
            </a:r>
            <a:br>
              <a:rPr sz="4000"/>
            </a:b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(vgl. Lehrplanarbeit an der Mittelschule – Projektgruppe Lehrplanarbeit am CI)</a:t>
            </a:r>
            <a:endParaRPr b="0" lang="en-US" sz="1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4000" y="3141720"/>
            <a:ext cx="5832360" cy="30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Verdana"/>
              </a:rPr>
              <a:t>Referate…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Verdana"/>
              </a:rPr>
              <a:t>Gruppenpräsentatio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Verdana"/>
              </a:rPr>
              <a:t>Rollenspi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Verdana"/>
              </a:rPr>
              <a:t>Schüler als Lehrend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Verdana"/>
              </a:rPr>
              <a:t>…</a:t>
            </a:r>
            <a:r>
              <a:rPr b="0" lang="de-DE" sz="2000" spc="-1" strike="noStrike">
                <a:solidFill>
                  <a:srgbClr val="ffffff"/>
                </a:solidFill>
                <a:latin typeface="Verdana"/>
              </a:rPr>
              <a:t>.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"/>
          <p:cNvSpPr/>
          <p:nvPr/>
        </p:nvSpPr>
        <p:spPr>
          <a:xfrm>
            <a:off x="1315080" y="1531800"/>
            <a:ext cx="604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Verdana"/>
              </a:rPr>
              <a:t>Mögliche Bausteine einer Bewertungskonzep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Verdana"/>
              </a:rPr>
              <a:t>für offenen Unterrich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4427640" y="2549520"/>
            <a:ext cx="4330440" cy="342576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624960" y="2540160"/>
            <a:ext cx="3209040" cy="3988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Verdana"/>
              </a:rPr>
              <a:t>Präsentationsbewertung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D. Rauthe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8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0634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ccecff"/>
                </a:solidFill>
                <a:latin typeface="Arial"/>
              </a:rPr>
              <a:t>Wie prozessorientierte Bewertung?</a:t>
            </a:r>
            <a:br>
              <a:rPr sz="3200"/>
            </a:br>
            <a:r>
              <a:rPr b="1" lang="de-DE" sz="1600" spc="-1" strike="noStrike">
                <a:solidFill>
                  <a:srgbClr val="ccecff"/>
                </a:solidFill>
                <a:latin typeface="Arial"/>
              </a:rPr>
              <a:t>(vgl. Lehrplanarbeit an der Mittelschule – Projektgruppe Lehrplanarbeit am CI)</a:t>
            </a:r>
            <a:endParaRPr b="0" lang="en-US" sz="1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86920" y="3141360"/>
            <a:ext cx="4753080" cy="29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Verdana"/>
              </a:rPr>
              <a:t>Beobachten von Lernverhalte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Verdana"/>
              </a:rPr>
              <a:t>Beobachten von Gruppenprozesse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Verdana"/>
              </a:rPr>
              <a:t>Schriftlicher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de-DE" sz="2000" spc="-1" strike="noStrike">
                <a:solidFill>
                  <a:srgbClr val="ffffff"/>
                </a:solidFill>
                <a:latin typeface="Verdana"/>
              </a:rPr>
              <a:t>Prozessberich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Verdana"/>
              </a:rPr>
              <a:t>Lerntagebuch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Verdana"/>
              </a:rPr>
              <a:t>Soll-Ist-Vergleich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Verdana"/>
              </a:rPr>
              <a:t>…</a:t>
            </a:r>
            <a:r>
              <a:rPr b="0" lang="de-DE" sz="2000" spc="-1" strike="noStrike">
                <a:solidFill>
                  <a:srgbClr val="ffffff"/>
                </a:solidFill>
                <a:latin typeface="Verdana"/>
              </a:rPr>
              <a:t>.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1315080" y="1531800"/>
            <a:ext cx="604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Verdana"/>
              </a:rPr>
              <a:t>Mögliche Bausteine einer Bewertungskonzep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Verdana"/>
              </a:rPr>
              <a:t>für offenen Unterrich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643280" y="2637000"/>
            <a:ext cx="433440" cy="3240000"/>
          </a:xfrm>
          <a:custGeom>
            <a:avLst/>
            <a:gdLst>
              <a:gd name="textAreaLeft" fmla="*/ 0 w 433440"/>
              <a:gd name="textAreaRight" fmla="*/ 156600 w 433440"/>
              <a:gd name="textAreaTop" fmla="*/ 84240 h 3240000"/>
              <a:gd name="textAreaBottom" fmla="*/ 3155760 h 324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364000" y="2708280"/>
            <a:ext cx="3456000" cy="29826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Verdana"/>
              </a:rPr>
              <a:t>Nutzung von Kriterien für die Erfassung der Schülerleistungen (vgl. Baukasten)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de-DE" sz="2000" spc="-1" strike="noStrike">
                <a:solidFill>
                  <a:srgbClr val="ffffff"/>
                </a:solidFill>
                <a:latin typeface="Verdana"/>
              </a:rPr>
              <a:t>Lernkompetenz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de-DE" sz="2000" spc="-1" strike="noStrike">
                <a:solidFill>
                  <a:srgbClr val="ffffff"/>
                </a:solidFill>
                <a:latin typeface="Verdana"/>
              </a:rPr>
              <a:t>Methodenkompetenz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de-DE" sz="2000" spc="-1" strike="noStrike">
                <a:solidFill>
                  <a:srgbClr val="ffffff"/>
                </a:solidFill>
                <a:latin typeface="Verdana"/>
              </a:rPr>
              <a:t>Sozialkompetenz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Verdana"/>
              </a:rPr>
              <a:t>(vgl. Folie Kriterien_Schülerkompetenzen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84360" y="2565360"/>
            <a:ext cx="2663640" cy="398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Verdana"/>
              </a:rPr>
              <a:t>Prozessbewertung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D. Rauthe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7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5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9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ccecff"/>
                </a:solidFill>
                <a:latin typeface="Arial"/>
              </a:rPr>
              <a:t>Wie prozessorientierte Bewertung?</a:t>
            </a:r>
            <a:br>
              <a:rPr sz="4000"/>
            </a:br>
            <a:r>
              <a:rPr b="1" lang="de-DE" sz="1600" spc="-1" strike="noStrike">
                <a:solidFill>
                  <a:srgbClr val="ccecff"/>
                </a:solidFill>
                <a:latin typeface="Arial"/>
              </a:rPr>
              <a:t>(vgl. Lehrplanarbeit an der Mittelschule – Projektgruppe Lehrplanarbeit am CI)</a:t>
            </a:r>
            <a:endParaRPr b="0" lang="en-US" sz="1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11280" y="2781000"/>
            <a:ext cx="728352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9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Verdana"/>
              </a:rPr>
              <a:t>Bereich(e) suchen (Kompetenzen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49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Verdana"/>
              </a:rPr>
              <a:t>Kriterien aus diesen Bereichen auswählen (vgl. Kompetenzbewertungsbogen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49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Verdana"/>
              </a:rPr>
              <a:t>Indikatoren für die einzelnen Kriterien festlegen (z. B. Baukasten, Bewertungsbogen für Gruppenarbeit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900000" y="1628640"/>
            <a:ext cx="770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Verdana"/>
              </a:rPr>
              <a:t>Mögliches Vorgehen für das Erstellen von Material für prozessorientierte Bewertung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 rot="802200">
            <a:off x="6587640" y="5013000"/>
            <a:ext cx="1905120" cy="152388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 rot="21154200">
            <a:off x="1063800" y="5135040"/>
            <a:ext cx="4792320" cy="3988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Verdana"/>
              </a:rPr>
              <a:t>(Vgl. Schritte Unterrichtsevaluatio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D. Rauthe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24T15:13:31Z</dcterms:created>
  <dc:creator>Dirk</dc:creator>
  <dc:description/>
  <dc:language>en-US</dc:language>
  <cp:lastModifiedBy>Dirk</cp:lastModifiedBy>
  <dcterms:modified xsi:type="dcterms:W3CDTF">2006-05-05T11:09:27Z</dcterms:modified>
  <cp:revision>29</cp:revision>
  <dc:subject/>
  <dc:title>Prozessorientierte Bewertu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5</vt:r8>
  </property>
</Properties>
</file>